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2454-802B-4638-B6B8-7B6051E36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0D75-FFB7-4F2B-9C68-3D5568993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0835-197B-43A3-A31A-94BEDD4D1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5AE3-9143-40F3-91F2-05BE07291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F39B0-4A00-4C4F-B0E0-5052FD046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CBE8D-33A7-44A1-BBFF-CA7A4B690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99C1F-FC61-4E46-B815-E786EE7DE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A9850-8011-4A29-BD94-2EB778D69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D6D5B-2867-4C01-9996-6298D4971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73096-ABC5-4AB9-A32B-CD8CCC1D3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EBE16-E327-4100-99C7-20F028FC7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3E2A-28DC-4390-9AAE-523243FDD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14579-7005-4F4B-8553-3F9BF78F6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D55A6-DDA7-462E-BC5E-EF2BC46D2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62916-E341-4547-A276-7439742F2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06B03-D7E8-461E-9F76-238C817D2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90B90-E9DE-49DF-B4C7-6DFF2171C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D9EE-460D-4A51-ACDA-CA69B84F1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7F28-ABA0-4349-AEFA-FAC8BCBD4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3802-122B-4EB7-A8BC-C9A482BF6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66D8-1485-4E53-8DEE-22E45FE00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0DEC-2370-4EF7-95FA-2750C288C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675E-3FDF-48C9-8C97-4CBD2CF2C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C231-928D-42DB-97DA-5AB15EC8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F2A83-AC0A-4FBA-B1A9-BA1C45F18F7C}" type="slidenum">
              <a:rPr b="0" lang="fi-FI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AEDD0-8D2D-4ED1-A4F3-998150203F6A}" type="slidenum">
              <a:rPr b="0" lang="fi-FI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895480" y="685800"/>
            <a:ext cx="2951280" cy="4794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990720" y="3733920"/>
            <a:ext cx="6546600" cy="17064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 rot="20143800">
            <a:off x="583920" y="860040"/>
            <a:ext cx="304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66"/>
                </a:solidFill>
                <a:latin typeface="Times New Roman"/>
              </a:rPr>
              <a:t>Kuvien järjesty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762120" y="5486400"/>
            <a:ext cx="7619760" cy="76320"/>
          </a:xfrm>
          <a:prstGeom prst="line">
            <a:avLst/>
          </a:prstGeom>
          <a:ln cap="sq" w="7632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kseli Ahertaj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24F291-D3F7-4193-A565-CCA860837FF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8T10:51:17Z</dcterms:created>
  <dc:creator>atk</dc:creator>
  <dc:description/>
  <dc:language>en-US</dc:language>
  <cp:lastModifiedBy>Kurssi</cp:lastModifiedBy>
  <dcterms:modified xsi:type="dcterms:W3CDTF">2003-02-17T11:21:59Z</dcterms:modified>
  <cp:revision>8</cp:revision>
  <dc:subject/>
  <dc:title>Vauhdin hurmaa</dc:title>
</cp:coreProperties>
</file>